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F05-E784-4CA5-B8D7-7EB41229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A18-0A30-449E-ADA1-5DC6C985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DAC-5F57-4C2E-B255-2E8F0D17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E14-46BD-4CF4-ACD0-62D94E0E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3935-238E-4DBA-96F8-988CC07E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F7D0-D9F2-4886-B500-EFE9786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529A-575E-4B2B-BA44-8E4BA378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544D-7C4B-48A5-B14C-5C00AADD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568E-BFE6-4D29-8181-AD71CD44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CFF-95EF-47BC-9AE3-229E0965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8589-E174-4684-BD86-E8ACAF4A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EFA-9923-4233-8FCD-7C2B5E7E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AC56-2226-4B62-9E57-163F9CB9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484-6609-4F0B-9D85-6AF81D8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AEF2-BFDA-4837-9568-9ED605CA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F889-9A53-44BC-BC01-CD15D61C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EAAF-311D-4B0E-9C16-3A2A9851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F71-CAD0-4363-8230-567E98B1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C78-D6F3-4CC6-8415-846855A6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69B-23DC-447F-A332-0FFBB1DD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2E6A-59A4-49F0-9BA0-4A830561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59D-0509-4F6B-B0BB-9166CD25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93F-8272-4829-93A9-21D4729E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AD0E-CF9F-48A6-AE4E-F6EC9A15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556A-D4FC-4B01-AE5F-EDF8C3F364A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2b335b"/>
            </a:solidFill>
            <a:ln w="57240">
              <a:solidFill>
                <a:srgbClr val="becb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5864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2b33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CE3C-0326-4FA3-8991-CE2E15F83E6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ecbd8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difference between an independent and dependent variabl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makes a good paper towel a good paper towel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brand absorbed the most wat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purpose of the controls in this experim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brand is the most economical to bu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the same brand that was the most absorben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 product do you conclude is the best buy, considering both absorbency and co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laims could be made for each of the brands tes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becbd8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and 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onsumer Product Lab…A One-Sheeter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1, 9/2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control and experimental features of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tinguish independent and dependent variables of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the scientific method to successfully complete an invest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6 Step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/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“If…then…becaus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vs.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s. 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: graphs, tables,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/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…then…because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d squares the same way for each dip (rec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 for the same amount of time (recor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p in the same amount of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water to drip back into bea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/are the control/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independent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99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dependent variab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Tim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/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28600" y="2209680"/>
          <a:ext cx="8686800" cy="4559400"/>
        </p:xfrm>
        <a:graphic>
          <a:graphicData uri="http://schemas.openxmlformats.org/drawingml/2006/table">
            <a:tbl>
              <a:tblPr/>
              <a:tblGrid>
                <a:gridCol w="1739880"/>
                <a:gridCol w="1733400"/>
                <a:gridCol w="1740240"/>
                <a:gridCol w="1733400"/>
                <a:gridCol w="1739880"/>
              </a:tblGrid>
              <a:tr h="14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wel Bran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 Absorbed (m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qft. per Ro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ce per sqft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$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33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 Wor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2438280"/>
            <a:ext cx="0" cy="3353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791320"/>
            <a:ext cx="4496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6019920"/>
            <a:ext cx="3429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840" y="3739680"/>
            <a:ext cx="2514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3:45:51Z</dcterms:created>
  <dc:creator>Jimmer Comerford</dc:creator>
  <dc:description/>
  <dc:language>en-US</dc:language>
  <cp:lastModifiedBy>Jimmer Comerford</cp:lastModifiedBy>
  <dcterms:modified xsi:type="dcterms:W3CDTF">2009-09-02T07:05:42Z</dcterms:modified>
  <cp:revision>6</cp:revision>
  <dc:subject/>
  <dc:title>Warm-up</dc:title>
</cp:coreProperties>
</file>